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519-08BF-4953-B46C-01F9FDA0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CAA-3EA4-4A44-B340-5AF3E7AE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EFF-559C-4B0B-85D8-FD352C84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621-0E49-45C9-868F-97F4722B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78A-A265-4346-B2EB-DFF472BC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0BE-E873-4899-8483-531A3566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3C2-0BDE-4A64-9639-54A6E1D4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F83-F901-4A35-B00F-D62FF6C6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5FC7-7C87-4249-916A-8018C441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067-E0F1-4EA9-B3D1-6BFE2BEC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45C-FEAC-4D1A-A58F-F75FCCC4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FDC-592E-400F-9CFD-D39A3E5C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7B1-77F2-4050-9E09-84A1C6B68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19237" r="17817" b="6212"/>
          <a:stretch/>
        </p:blipFill>
        <p:spPr>
          <a:xfrm>
            <a:off x="304920" y="11430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Ich bin zu Besuch in Berl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ch besuchte die Berlin Wall mit meiner Mut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ch besuchte die Berliner 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ch besuchte di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darmenmark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h besuchte die Gamaldegale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h besuchte die Zoologischer G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65628" t="27343" r="5624" b="23438"/>
          <a:stretch/>
        </p:blipFill>
        <p:spPr>
          <a:xfrm>
            <a:off x="762120" y="1371600"/>
            <a:ext cx="350496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8920" y="205740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unserm Hotel gibt es das Restaura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Café, Frei Frühstück und Frei Wif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31:59Z</dcterms:created>
  <dc:creator>CUSD220</dc:creator>
  <dc:description/>
  <dc:language>en-US</dc:language>
  <cp:lastModifiedBy>CUSD220</cp:lastModifiedBy>
  <dcterms:modified xsi:type="dcterms:W3CDTF">2012-01-06T18:42:52Z</dcterms:modified>
  <cp:revision>3</cp:revision>
  <dc:subject/>
  <dc:title>Slide 1</dc:title>
</cp:coreProperties>
</file>